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FB15-7604-4975-AD75-2F1EB0F0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CFDB5-4BE5-4AAE-A1CF-2B4A03BE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7ECE8-148A-43C4-8E54-842B9503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B9863-8F72-4BFB-A061-74E2F6CF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E7551-D542-41DE-A05E-3B76EFCE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E82A7-124C-4C9C-9697-A9C6B756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894A8-1FC3-4D02-ADDD-15317B45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EF428-7DCE-4F38-B4C3-554555C2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C4161-688F-4E52-BB92-8E5C09E8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E9F94-EC82-46DA-A148-A918FDA9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9214A-B297-447B-A610-D938C34E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D90F3-8295-4C71-B5B8-2473C8C1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A980-1F66-41E3-A214-197CF9E22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33327-1CC6-4BAA-86D5-827E44FD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F5104-824E-46AB-A7B9-150176E0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AAA9E-5622-493D-B50C-F1A6370B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6A276-5B2E-4DA7-9B5C-5B37486D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90369-B512-4072-898C-693D88B2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452B4-BDE6-4059-A91B-2282FCAF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47583-9EA8-43D1-AEE6-8F828689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00FF1-E808-4094-AEC4-3B399F89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4DBCB-3153-4163-95A2-251CB99A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F3485-E9C1-4016-A1D9-0DFF0135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F794-7AB2-485C-A9AC-6B4B8299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18F4E-9849-4D61-8D0E-3AF82B07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5887C-213B-441B-962F-31263EEA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FB09F-2F01-485D-9568-1D456640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F3614-668F-462B-8E3D-53D47268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708C0-82FE-46BA-96B3-52369620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22BD2-2C0D-4BCA-947D-8AAE091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B1A80-9882-4D4E-8DC4-B419620B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A3E7F-FE69-4F5B-A2CA-7B16AC19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BFF1EF-E12E-45A0-94A4-19FC100B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06765-4F40-400E-9C70-52D273CD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6041-25A5-42C5-A326-95957E68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83E7F-F7E5-4A0F-B631-BB2EC850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96889-F1A7-4EC1-B4CD-E7963033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E1EE8-19C0-4CDE-B8BB-E0A3F89D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C17C6-5F0D-4FBE-83B3-1B869F92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2A7F9-A8CB-4D51-B301-BE4284BC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F0368-E7F1-4230-A1D6-CD88B0C7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CBF61-EE52-4120-ACD2-AC7B2B14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BCA41-C944-4362-8635-47A40AA3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8C8F0-54CB-4700-B419-1C95E160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86776-6CD2-4A2A-A5C0-2C74DB00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7EB3-A024-4E5D-AE50-9A85CE00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245F7-28BD-4AEE-9E7C-5A6530D4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7AE23-EC19-4025-8B64-9E8A6C28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A93A6-A87F-4076-B6D2-D6AEC71A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9A309-EE3E-41A4-83B5-65A29516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E62A9-7666-4293-BBAC-B6E15652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7666C-9796-4D55-BADB-C6EA83F9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3BA29-50C3-422D-91CC-AFF8D41B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48F58-E793-4D4A-9508-1B09D640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76EF99-8F43-4809-BA64-FE7EA1CF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6EB1B-C687-487B-8880-C6D6D71F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2007-DA46-4A77-A2EA-FD51E3C3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20C43-ADC5-48E5-B6F0-B809ABE6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1FC15-8A1F-4F16-871F-748F5194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E00EF-F231-4BE0-AB57-FECD96AC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F1FB8F-D4E5-4904-8DA6-42E4865F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F3FDE-8867-49FD-9AB8-3FC51467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867C4-A2E3-461D-9B5B-DD6B688D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6E73FC-A31B-41BD-A790-F2656EB4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944134-4C44-4CDE-87AC-B7AEB231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B740E-B6A3-4678-AFB3-F17606A4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5B758-6A3A-4908-8E8A-B4570655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0F89-9297-4E7B-90AB-C9E442A2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CB4A38-3C5D-4D84-AB58-D0FF9701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6F6EF-A930-4057-9813-37B361EC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A97287-0995-4E9A-81A2-A7A7B462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EA09A-26A0-4E86-AF4A-8A7A22B0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B3002-24AF-492B-B39D-80965057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01FF71-2B1F-42DC-B1B0-66028B18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B6ADF-42AB-4BAA-9566-4AB651CC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50DBF-606D-4A0F-87F3-F2E7421B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BB723B-3AF5-4129-8F4B-92FA0B39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1429-9F99-400B-8F6E-5F8EBDF8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D1C4-855B-4E60-B43B-3DD23FA8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B499-D674-4F16-A857-65EFB6FD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5E83E-5F01-4F06-98D2-D6455641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CD71-F398-4147-BA34-9380D019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E0E1-01C3-4C62-9E56-6ADADC1B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8D00-8A36-4289-A2F2-0AABFE21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6824-966E-42C4-80F6-6671025F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4C2A-2430-48A9-B311-0C7762B2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5E1F7-9A65-4D4B-90F3-15CB96FF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229CE-4D1A-49E6-A59A-5882E546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7AAE-13CD-4EFC-876D-28C95188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AA686-BE9E-477C-BC66-7E423EA8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BA5C4-1AE9-4F69-AE62-89E90DF5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3F9C-CF2A-4E59-8128-93E9A978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198EC-2FAF-47D1-998B-38E79440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BC3B3-5857-4B4A-BB02-90112F56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83793-AAB8-4399-A390-E58D2423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B502-0F19-4EF1-BB3D-9E8B917D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870D3-1D50-471C-9F00-E3ABD96D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722F-FC33-41F3-9C63-BFB31E12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0C78-C46A-486F-8403-9422290A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97F48-9E2A-4C14-BE1B-95B7CDDF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58B87-BDEA-43F1-B854-8A73FF01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A5D29-6636-49C7-8274-5C38ABC1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36D8-A41B-4A35-B52B-46FFF74A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27AA1-C32C-4C75-8288-F80270BE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7D2E4-067D-49C3-9CEF-0583475C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98BDA-1F3E-4006-A21C-7BE32853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E3006-6EF2-44C9-B11A-EAB41C3E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F7C33-4D30-45D2-A37C-BC8FF675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F20C-96C1-48D8-AE61-F4FE5ED5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647D7-9951-49E0-9A8E-5F6038FB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6C547-44AD-4DFB-91FF-1480F50B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36692-6367-4FA2-8374-C398327B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D79648-F1D5-4BC5-8E60-4F52859F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37A8A-5839-4EAE-9322-D943C081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AF750-F663-4FD5-B31A-137A01EF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EA578-39D7-4243-9E4B-72666791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039D0-9C23-4255-AE93-C2EDD9B5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30F542-3CD8-4EAB-95F5-93415E11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7116C8-EDA4-4C9E-87A1-4A1B42AF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9C93A-AB03-400D-BE38-DE30A2C9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D6A84-A5D8-4C7F-8426-0D8881F4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B79C83-B23D-42B8-9702-13E88414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347E4-D05D-4704-90EF-EC278665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1513A-4EFC-4BB4-BBDE-E8303F6A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39CEC-0436-46C6-AD58-B854F468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E1761-A506-473F-B7B2-0C579327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6944F-6F47-4FFC-8930-87D6173F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833C7-D1C5-4200-9082-05C500F6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1EF24-DF17-45BC-A91A-790E52EE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D6A13-665E-4564-8B23-9E10E5FE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9A196-AA64-417B-84E6-6FDE6C82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9B701-59C3-4C46-8E7C-F86CA25B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C355B-DD8F-4282-B325-D25B5A60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B7E97-9515-4105-A5EA-FDDB1389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6FA82-EB92-46DB-8EA0-62E867CF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127B-4444-4787-8751-E55691F6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CE469-4DEE-4919-9105-FA54E543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DCABA-AB81-4BB5-BF1C-5056093F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7C124-6704-4570-BEA6-6FAC3BC1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89AA4-6B2D-478A-876C-45449D8E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AE6B8-C8B0-473A-B3E6-427B6EAB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2EF88-938B-4C99-B3CF-3E5F50AA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7381D-141C-4184-8B6A-148AACCD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F4CC2-3900-4487-9857-8F3A88C9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00DAF-A19C-437D-8036-B8AEB6AF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3AEEE-A733-469B-BE79-C2F27117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05312-D1BB-48F5-8129-9F3886E7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8920C-2BC4-4B49-9AD3-62613C57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40C40-A840-4511-84FD-0D39A69F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98634-3775-405E-8281-32F39B2C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90EA8-0602-4524-A40D-3582AAE4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367F8-55E7-47EA-A711-49CDCAD3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BFC3F-6203-4A44-855E-44919471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6600A-D65C-472D-82DC-9AEE14ED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5260E-C6DF-473E-B282-73334F9D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E8781-3E8F-4138-87BA-6DC84CF6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97822-ADB1-4DFE-8794-81BFF4BF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6ED8-352D-4768-8943-32E5EF7D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02C6F-AE60-4600-B67B-11843C15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A024E-1BE5-4CC2-B919-17E15EEF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AD094-56B2-4D5E-9E21-5F4BB1D8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1350D-0782-4ADF-BA64-D573F6C5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C663C-19FC-403E-A776-4969D026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CEA2D-2725-43F7-8C8D-F23A761C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89109-C2BF-42A2-BFC4-1F4D750D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6092D-3AE9-411E-B0F7-CCA379D98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47E8E-7E80-462A-8B1A-4E165A02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2BF9C-252D-4A2A-82CD-1F2ECC48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90C1-92F5-4764-8843-6E7B1301E1E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3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3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3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3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4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0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0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1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1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4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4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5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05E5-E31F-4019-90E3-F04A33FF68C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0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1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3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9836-8654-42BC-8893-A256707136C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8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8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0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1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32C3-BADD-4C53-8C30-0594E8116D2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6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FB43-B876-4D46-9667-803367144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6D93-54F0-4015-96FD-15998A164A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BD9A-7BDA-4A67-A6EC-C1DDC5C21A2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8940-49BD-4D3C-BA92-57EC56BD58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1EF6-A405-42BF-96C2-7D692328FA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0D4C-AB66-4C0A-9241-DC0CD2C579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1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1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5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EFFE-B32D-4A1E-B02C-4400D0AD59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0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8CEE-0D4B-49BB-9449-2E1984982F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83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9C7B-F5F1-4A4F-B468-2B364F0EDC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5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5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6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7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51C4-8C43-4760-9C43-37A5D3B8F32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The three branches of governmen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three branches of government are the Legislative, Judicial, and Executive branch.  They all can make sure that one doesn't get to powerful with a system called 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Checks and  balance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ecutiv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vice president and the cabinet members can vote the president out if he has done his du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en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is all the information of the three branches of government and how they keep each other in check thank you for watching this PowerPoin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edi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is PowerPoint was made by Kenneth Perinchief t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 special thanks to Mr.D for all of the information on the three branches of governmen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I couldn't have done with out yo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5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5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5000" fill="hold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000" fill="hold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5000" fill="hold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0" fill="hold"/>
                                        <p:tgtEl>
                                          <p:spTgt spid="1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5000" fill="hold"/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000" fill="hold"/>
                                        <p:tgtEl>
                                          <p:spTgt spid="1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are checks and bala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cks and balances is a system that lets the branches check each other to make sure the other two don’t get to much pow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gislative Branc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When congress makes a law the president can veto it but congress can override the veto if two thirds of representatives from both the houses agree to the la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n they can pass the law as long as supreme court  says its constitut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gisla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most Extreme method congress uses is to remove the president or supreme court justices from office in a process called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Impeach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o do this congress has to the charge the president or justices for a serious cr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he senate then makes a trial if two thirds of them say to convict the president or justice is removed from off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gislativ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ly the legislative branch decides who the president’s cabinet members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approves who the supreme court justices 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udicial bran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Judicial branch is made out of the  supreme court and the lower cou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cases are dealt with the lower cou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in job of the supreme court is to be the final court of appe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Judici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upreme has the right to check congress and the president by declaring laws unconstituti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lso have the right to declare the president acts unconstitutional and try him for impeach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ecutive branch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executive branch includes the president the vice president and the president’s cabinet memb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ecutiv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congress makes the law the president has the right to veto the la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resident also chooses who the supreme court justices 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6:53:12Z</dcterms:created>
  <dc:creator>Kenneth.Perinchief</dc:creator>
  <dc:description/>
  <dc:language>en-US</dc:language>
  <cp:lastModifiedBy>HP Authorized Customer</cp:lastModifiedBy>
  <dcterms:modified xsi:type="dcterms:W3CDTF">2008-04-27T22:05:34Z</dcterms:modified>
  <cp:revision>4</cp:revision>
  <dc:subject/>
  <dc:title>The three branches of government</dc:title>
</cp:coreProperties>
</file>